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png" ContentType="image/png"/>
  <Override PartName="/ppt/media/image5.jpeg" ContentType="image/jpeg"/>
  <Override PartName="/ppt/media/image9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1.wmf" ContentType="image/x-wmf"/>
  <Override PartName="/ppt/media/image7.png" ContentType="image/png"/>
  <Override PartName="/ppt/media/image4.gif" ContentType="image/gif"/>
  <Override PartName="/ppt/media/image3.gif" ContentType="image/gif"/>
  <Override PartName="/ppt/media/image6.png" ContentType="image/pn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093-50CF-44FF-91DD-953BA36D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E7B-60F4-4211-9CDC-93419BED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C4D-1662-4E1F-AB3C-A5112A65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71A-0BF2-47CA-A347-A14D9A13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E940-1B48-4F6A-9957-690E4EF1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D875-449F-4E4A-8F79-19E9CAB6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7EA2-ED95-46B0-A092-71EF5F48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C003-152A-4330-84B7-C4FD6C9D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4336-DA12-4BE2-9851-47F56EF1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BA8A-C4DB-4D2C-AD07-300DEECF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C7C1-BEF6-422C-A2E1-3709921A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07D-546D-4BA3-B9E7-76F8479D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C099-1669-4853-98B0-77CBBBBC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E5B4-2911-42AA-917F-7C24223D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054B-3065-4B10-A697-947F0175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0F7C-71B9-4FF4-86FE-E3539C0F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0367-4BE7-4964-BFAA-5D8D1B2E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DE7-BCEA-4ECC-86FF-47333E8A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35A-187B-42EA-8615-FDC16A12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187-27C5-49D1-9517-8DA40F4A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235-81AB-4F23-AD2C-2FEB1D69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AC4-3F60-4B04-A0A6-9D0697B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DDB-096A-4CF6-81A9-F28599D7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929-6670-41A2-8501-144A58DA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A7AD-C511-4286-9F36-5CA317BC9DB1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7EBE-6522-47ED-90A3-8551F77501F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earningplanet.com/act/abcorder.asp" TargetMode="External"/><Relationship Id="rId3" Type="http://schemas.openxmlformats.org/officeDocument/2006/relationships/hyperlink" Target="http://www.bbc.co.uk/schools/wordsandpictures/cvc/crank/game.shtml" TargetMode="External"/><Relationship Id="rId4" Type="http://schemas.openxmlformats.org/officeDocument/2006/relationships/hyperlink" Target="http://www.harcourtschool.com/activity/word_builder/level1/1_10.html" TargetMode="External"/><Relationship Id="rId5" Type="http://schemas.openxmlformats.org/officeDocument/2006/relationships/hyperlink" Target="http://www.starfall.com/n/me/me/load.htm?f" TargetMode="External"/><Relationship Id="rId6" Type="http://schemas.openxmlformats.org/officeDocument/2006/relationships/image" Target="../media/image6.png"/><Relationship Id="rId7" Type="http://schemas.openxmlformats.org/officeDocument/2006/relationships/slide" Target="slide2.xml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bskids.org/lions/games/pounce.html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ictgames.com/letterlifter.html" TargetMode="External"/><Relationship Id="rId4" Type="http://schemas.openxmlformats.org/officeDocument/2006/relationships/hyperlink" Target="http://www.starfall.com/n/control-ar/ds_ar/load.htm?f" TargetMode="External"/><Relationship Id="rId5" Type="http://schemas.openxmlformats.org/officeDocument/2006/relationships/hyperlink" Target="http://www.bbc.co.uk/schools/laac/words/dg2.shtml" TargetMode="External"/><Relationship Id="rId6" Type="http://schemas.openxmlformats.org/officeDocument/2006/relationships/hyperlink" Target="http://www.pbskids.org/lions/games/pounce2.html" TargetMode="External"/><Relationship Id="rId7" Type="http://schemas.openxmlformats.org/officeDocument/2006/relationships/image" Target="../media/image8.gi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slide" Target="slide2.xml"/><Relationship Id="rId1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ctgames.com/postletter.htm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ictgames.com/newduckshoot.html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" Target="slide2.xm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- Year 1 –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gital Learning Cent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76360" y="6237000"/>
            <a:ext cx="38149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 by justine@bbps.school.nz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3933720"/>
            <a:ext cx="5329440" cy="863640"/>
          </a:xfrm>
          <a:custGeom>
            <a:avLst/>
            <a:gdLst>
              <a:gd name="textAreaLeft" fmla="*/ 0 w 5329440"/>
              <a:gd name="textAreaRight" fmla="*/ 5329800 w 532944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anywhere to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me pag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71640" y="22050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1716120" cy="1752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00360" y="2997360"/>
            <a:ext cx="23731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3860640"/>
            <a:ext cx="2373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1908000" y="220500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306864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8000" y="386064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867280" y="4797360"/>
            <a:ext cx="2316240" cy="1752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299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484360" y="5013360"/>
            <a:ext cx="1727280" cy="1314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07672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 by justine@bbps.school.n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68706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131640" y="1773360"/>
            <a:ext cx="5327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phabet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3 letter wor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sound is in the middl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o am I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1411560" cy="134136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2"/>
          </p:cNvPr>
          <p:cNvSpPr/>
          <p:nvPr/>
        </p:nvSpPr>
        <p:spPr>
          <a:xfrm>
            <a:off x="2124000" y="177336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3"/>
          </p:cNvPr>
          <p:cNvSpPr/>
          <p:nvPr/>
        </p:nvSpPr>
        <p:spPr>
          <a:xfrm>
            <a:off x="2124000" y="378936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rId4"/>
          </p:cNvPr>
          <p:cNvSpPr/>
          <p:nvPr/>
        </p:nvSpPr>
        <p:spPr>
          <a:xfrm>
            <a:off x="2124000" y="278136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5"/>
          </p:cNvPr>
          <p:cNvSpPr/>
          <p:nvPr/>
        </p:nvSpPr>
        <p:spPr>
          <a:xfrm>
            <a:off x="2124000" y="479736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5508720" y="4797360"/>
            <a:ext cx="1727280" cy="137340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7451640" y="5589720"/>
            <a:ext cx="1081080" cy="9349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4976" h="21600">
                <a:moveTo>
                  <a:pt x="0" y="0"/>
                </a:moveTo>
                <a:lnTo>
                  <a:pt x="24976" y="0"/>
                </a:lnTo>
                <a:lnTo>
                  <a:pt x="24976" y="21600"/>
                </a:lnTo>
                <a:lnTo>
                  <a:pt x="0" y="21600"/>
                </a:lnTo>
                <a:close/>
              </a:path>
              <a:path fill="lightenLess" w="24976" h="21600">
                <a:moveTo>
                  <a:pt x="0" y="0"/>
                </a:moveTo>
                <a:lnTo>
                  <a:pt x="24976" y="0"/>
                </a:lnTo>
                <a:lnTo>
                  <a:pt x="23576" y="1400"/>
                </a:lnTo>
                <a:lnTo>
                  <a:pt x="1400" y="1400"/>
                </a:lnTo>
                <a:close/>
              </a:path>
              <a:path fill="darken" w="24976" h="21600">
                <a:moveTo>
                  <a:pt x="24976" y="0"/>
                </a:moveTo>
                <a:lnTo>
                  <a:pt x="24976" y="21600"/>
                </a:lnTo>
                <a:lnTo>
                  <a:pt x="23576" y="20200"/>
                </a:lnTo>
                <a:lnTo>
                  <a:pt x="23576" y="1400"/>
                </a:lnTo>
                <a:close/>
              </a:path>
              <a:path fill="darkenLess" w="24976" h="21600">
                <a:moveTo>
                  <a:pt x="24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6" y="20200"/>
                </a:lnTo>
                <a:close/>
              </a:path>
              <a:path fill="lighten" w="24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6" h="21600">
                <a:moveTo>
                  <a:pt x="12488" y="3837"/>
                </a:moveTo>
                <a:lnTo>
                  <a:pt x="15064" y="6448"/>
                </a:ln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lnTo>
                  <a:pt x="19451" y="10800"/>
                </a:lnTo>
                <a:lnTo>
                  <a:pt x="17797" y="10800"/>
                </a:lnTo>
                <a:lnTo>
                  <a:pt x="17797" y="17989"/>
                </a:lnTo>
                <a:lnTo>
                  <a:pt x="7179" y="17989"/>
                </a:lnTo>
                <a:lnTo>
                  <a:pt x="7179" y="10800"/>
                </a:lnTo>
                <a:lnTo>
                  <a:pt x="5525" y="10800"/>
                </a:lnTo>
                <a:close/>
              </a:path>
              <a:path fill="darkenLess" w="24976" h="21600">
                <a:moveTo>
                  <a:pt x="15064" y="6448"/>
                </a:move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close/>
              </a:path>
              <a:path fill="darkenLess" w="24976" h="21600">
                <a:moveTo>
                  <a:pt x="11565" y="14299"/>
                </a:moveTo>
                <a:lnTo>
                  <a:pt x="13410" y="14299"/>
                </a:lnTo>
                <a:lnTo>
                  <a:pt x="13410" y="17989"/>
                </a:lnTo>
                <a:lnTo>
                  <a:pt x="17797" y="17989"/>
                </a:lnTo>
                <a:lnTo>
                  <a:pt x="17797" y="10800"/>
                </a:lnTo>
                <a:lnTo>
                  <a:pt x="7179" y="10800"/>
                </a:lnTo>
                <a:lnTo>
                  <a:pt x="7179" y="17989"/>
                </a:lnTo>
                <a:lnTo>
                  <a:pt x="11565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48360" y="6527880"/>
            <a:ext cx="381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 by justine@bbps.school.n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687096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19640" y="1700280"/>
            <a:ext cx="5473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first letter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e a word ga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sounds ga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unce  ga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pounceicon" descr="Pounce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50864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3"/>
          </p:cNvPr>
          <p:cNvSpPr/>
          <p:nvPr/>
        </p:nvSpPr>
        <p:spPr>
          <a:xfrm>
            <a:off x="2484360" y="184464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4"/>
          </p:cNvPr>
          <p:cNvSpPr/>
          <p:nvPr/>
        </p:nvSpPr>
        <p:spPr>
          <a:xfrm>
            <a:off x="2484360" y="270828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5"/>
          </p:cNvPr>
          <p:cNvSpPr/>
          <p:nvPr/>
        </p:nvSpPr>
        <p:spPr>
          <a:xfrm>
            <a:off x="2484360" y="3645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rId6"/>
          </p:cNvPr>
          <p:cNvSpPr/>
          <p:nvPr/>
        </p:nvSpPr>
        <p:spPr>
          <a:xfrm>
            <a:off x="2484360" y="465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3924360" y="260280"/>
            <a:ext cx="1152360" cy="1136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203640" y="5300640"/>
            <a:ext cx="1368360" cy="1359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539640" y="2997360"/>
            <a:ext cx="1366920" cy="1064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6443640" y="422280"/>
            <a:ext cx="1152720" cy="10746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11" action="ppaction://hlinksldjump"/>
          </p:cNvPr>
          <p:cNvSpPr/>
          <p:nvPr/>
        </p:nvSpPr>
        <p:spPr>
          <a:xfrm>
            <a:off x="7236000" y="5589720"/>
            <a:ext cx="1081080" cy="9349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4976" h="21600">
                <a:moveTo>
                  <a:pt x="0" y="0"/>
                </a:moveTo>
                <a:lnTo>
                  <a:pt x="24976" y="0"/>
                </a:lnTo>
                <a:lnTo>
                  <a:pt x="24976" y="21600"/>
                </a:lnTo>
                <a:lnTo>
                  <a:pt x="0" y="21600"/>
                </a:lnTo>
                <a:close/>
              </a:path>
              <a:path fill="lightenLess" w="24976" h="21600">
                <a:moveTo>
                  <a:pt x="0" y="0"/>
                </a:moveTo>
                <a:lnTo>
                  <a:pt x="24976" y="0"/>
                </a:lnTo>
                <a:lnTo>
                  <a:pt x="23576" y="1400"/>
                </a:lnTo>
                <a:lnTo>
                  <a:pt x="1400" y="1400"/>
                </a:lnTo>
                <a:close/>
              </a:path>
              <a:path fill="darken" w="24976" h="21600">
                <a:moveTo>
                  <a:pt x="24976" y="0"/>
                </a:moveTo>
                <a:lnTo>
                  <a:pt x="24976" y="21600"/>
                </a:lnTo>
                <a:lnTo>
                  <a:pt x="23576" y="20200"/>
                </a:lnTo>
                <a:lnTo>
                  <a:pt x="23576" y="1400"/>
                </a:lnTo>
                <a:close/>
              </a:path>
              <a:path fill="darkenLess" w="24976" h="21600">
                <a:moveTo>
                  <a:pt x="24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6" y="20200"/>
                </a:lnTo>
                <a:close/>
              </a:path>
              <a:path fill="lighten" w="24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6" h="21600">
                <a:moveTo>
                  <a:pt x="12488" y="3837"/>
                </a:moveTo>
                <a:lnTo>
                  <a:pt x="15064" y="6448"/>
                </a:ln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lnTo>
                  <a:pt x="19451" y="10800"/>
                </a:lnTo>
                <a:lnTo>
                  <a:pt x="17797" y="10800"/>
                </a:lnTo>
                <a:lnTo>
                  <a:pt x="17797" y="17989"/>
                </a:lnTo>
                <a:lnTo>
                  <a:pt x="7179" y="17989"/>
                </a:lnTo>
                <a:lnTo>
                  <a:pt x="7179" y="10800"/>
                </a:lnTo>
                <a:lnTo>
                  <a:pt x="5525" y="10800"/>
                </a:lnTo>
                <a:close/>
              </a:path>
              <a:path fill="darkenLess" w="24976" h="21600">
                <a:moveTo>
                  <a:pt x="15064" y="6448"/>
                </a:move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close/>
              </a:path>
              <a:path fill="darkenLess" w="24976" h="21600">
                <a:moveTo>
                  <a:pt x="11565" y="14299"/>
                </a:moveTo>
                <a:lnTo>
                  <a:pt x="13410" y="14299"/>
                </a:lnTo>
                <a:lnTo>
                  <a:pt x="13410" y="17989"/>
                </a:lnTo>
                <a:lnTo>
                  <a:pt x="17797" y="17989"/>
                </a:lnTo>
                <a:lnTo>
                  <a:pt x="17797" y="10800"/>
                </a:lnTo>
                <a:lnTo>
                  <a:pt x="7179" y="10800"/>
                </a:lnTo>
                <a:lnTo>
                  <a:pt x="7179" y="17989"/>
                </a:lnTo>
                <a:lnTo>
                  <a:pt x="11565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 by justine@bbps.school.n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th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ost" descr="Post a Let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936720" cy="590760"/>
          </a:xfrm>
          <a:prstGeom prst="rect">
            <a:avLst/>
          </a:prstGeom>
          <a:ln w="0">
            <a:noFill/>
          </a:ln>
        </p:spPr>
      </p:pic>
      <p:pic>
        <p:nvPicPr>
          <p:cNvPr id="191" name="duck" descr="Fairground Target Ga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852640"/>
            <a:ext cx="863640" cy="741600"/>
          </a:xfrm>
          <a:prstGeom prst="rect">
            <a:avLst/>
          </a:prstGeom>
          <a:ln w="0">
            <a:noFill/>
          </a:ln>
        </p:spPr>
      </p:pic>
      <p:pic>
        <p:nvPicPr>
          <p:cNvPr id="192" name="spanner" descr="Save the Whale"/>
          <p:cNvPicPr/>
          <p:nvPr/>
        </p:nvPicPr>
        <p:blipFill>
          <a:blip r:embed="rId5"/>
          <a:stretch/>
        </p:blipFill>
        <p:spPr>
          <a:xfrm>
            <a:off x="1332000" y="379728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6" action="ppaction://hlinksldjump"/>
          </p:cNvPr>
          <p:cNvSpPr/>
          <p:nvPr/>
        </p:nvSpPr>
        <p:spPr>
          <a:xfrm>
            <a:off x="7236000" y="5589720"/>
            <a:ext cx="1081080" cy="9349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4976" h="21600">
                <a:moveTo>
                  <a:pt x="0" y="0"/>
                </a:moveTo>
                <a:lnTo>
                  <a:pt x="24976" y="0"/>
                </a:lnTo>
                <a:lnTo>
                  <a:pt x="24976" y="21600"/>
                </a:lnTo>
                <a:lnTo>
                  <a:pt x="0" y="21600"/>
                </a:lnTo>
                <a:close/>
              </a:path>
              <a:path fill="lightenLess" w="24976" h="21600">
                <a:moveTo>
                  <a:pt x="0" y="0"/>
                </a:moveTo>
                <a:lnTo>
                  <a:pt x="24976" y="0"/>
                </a:lnTo>
                <a:lnTo>
                  <a:pt x="23576" y="1400"/>
                </a:lnTo>
                <a:lnTo>
                  <a:pt x="1400" y="1400"/>
                </a:lnTo>
                <a:close/>
              </a:path>
              <a:path fill="darken" w="24976" h="21600">
                <a:moveTo>
                  <a:pt x="24976" y="0"/>
                </a:moveTo>
                <a:lnTo>
                  <a:pt x="24976" y="21600"/>
                </a:lnTo>
                <a:lnTo>
                  <a:pt x="23576" y="20200"/>
                </a:lnTo>
                <a:lnTo>
                  <a:pt x="23576" y="1400"/>
                </a:lnTo>
                <a:close/>
              </a:path>
              <a:path fill="darkenLess" w="24976" h="21600">
                <a:moveTo>
                  <a:pt x="24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6" y="20200"/>
                </a:lnTo>
                <a:close/>
              </a:path>
              <a:path fill="lighten" w="24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6" h="21600">
                <a:moveTo>
                  <a:pt x="12488" y="3837"/>
                </a:moveTo>
                <a:lnTo>
                  <a:pt x="15064" y="6448"/>
                </a:ln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lnTo>
                  <a:pt x="19451" y="10800"/>
                </a:lnTo>
                <a:lnTo>
                  <a:pt x="17797" y="10800"/>
                </a:lnTo>
                <a:lnTo>
                  <a:pt x="17797" y="17989"/>
                </a:lnTo>
                <a:lnTo>
                  <a:pt x="7179" y="17989"/>
                </a:lnTo>
                <a:lnTo>
                  <a:pt x="7179" y="10800"/>
                </a:lnTo>
                <a:lnTo>
                  <a:pt x="5525" y="10800"/>
                </a:lnTo>
                <a:close/>
              </a:path>
              <a:path fill="darkenLess" w="24976" h="21600">
                <a:moveTo>
                  <a:pt x="15064" y="6448"/>
                </a:move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close/>
              </a:path>
              <a:path fill="darkenLess" w="24976" h="21600">
                <a:moveTo>
                  <a:pt x="11565" y="14299"/>
                </a:moveTo>
                <a:lnTo>
                  <a:pt x="13410" y="14299"/>
                </a:lnTo>
                <a:lnTo>
                  <a:pt x="13410" y="17989"/>
                </a:lnTo>
                <a:lnTo>
                  <a:pt x="17797" y="17989"/>
                </a:lnTo>
                <a:lnTo>
                  <a:pt x="17797" y="10800"/>
                </a:lnTo>
                <a:lnTo>
                  <a:pt x="7179" y="10800"/>
                </a:lnTo>
                <a:lnTo>
                  <a:pt x="7179" y="17989"/>
                </a:lnTo>
                <a:lnTo>
                  <a:pt x="11565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1844640"/>
            <a:ext cx="6408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ognise and read numbers to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unting in 1s to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now bonds of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dd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797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 by justine@bbps.school.n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0:50:01Z</dcterms:created>
  <dc:creator>Driver</dc:creator>
  <dc:description/>
  <dc:language>en-US</dc:language>
  <cp:lastModifiedBy>lindal</cp:lastModifiedBy>
  <dcterms:modified xsi:type="dcterms:W3CDTF">2007-05-10T14:03:48Z</dcterms:modified>
  <cp:revision>11</cp:revision>
  <dc:subject/>
  <dc:title>- Year 1 –  Digital Learning Centre</dc:title>
</cp:coreProperties>
</file>